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DD73-88CF-4A7F-A6B0-B1407E2492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89E3-0D76-480F-B49E-50C3BCEF7F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3D48-8802-4E3F-9E94-680B55FE51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D44C-CD0E-40EE-BD20-22CC06E91A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F414-55C5-41E8-87BF-B58CA137E4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8D1A-5A3F-484F-9954-B5E43760C3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D325-AC8C-42BB-AD5F-5377F66F95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A491-6B41-468B-921D-D56E9D8F43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2A2C-4144-4A89-9322-FF68F0A434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A541-692A-4DC4-AFF7-3E9AD949DC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FB6A-D65B-45CE-918F-7478183A2B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21B2-45D6-480E-B29D-67132CD3C8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7895-A75F-4E76-B5ED-207E144805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E0E7-6AD6-4534-A2B5-CFC6BE2D39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8D5D-7C8A-49D5-B9E1-2BB298475D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02E9-1F00-4FC7-8431-DF1521353A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1A91-4AD9-430E-98CC-71B5A0698E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F452-E128-4DBE-BCE7-E6AA150197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514E-D1EC-42ED-82CD-40A96AD50C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E2E0-CF18-454B-B163-64F51034BA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A327-3CC8-4B2C-9884-4FD2AECBB5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B0E7-6393-4728-8167-00B0D8DB96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32DA-F326-4976-848E-1B3428C06B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947F-D34A-4720-8BEA-F1D8E26EA1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7C87-9C96-4C34-A671-CE9DB9E626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2DF7-DBDE-4FC6-818D-B3F73C06D1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3D2E-538E-4243-A94A-125A58E303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2623-2CE3-43A8-AB20-5E6DFFDA8E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D8AC-6D54-416E-90FA-10705759F0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8BB2-6626-4FCE-83C1-3597A4FBF6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B06D-F320-4064-A383-9456855F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1C9-7564-443A-8B15-5D736E83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3D86-C0D1-4531-AC0A-5575306A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D5F-FC67-4973-811A-076668CE4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8615-47C7-4137-AD22-30206BEE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CAA-E4A2-4A12-A1B3-8D02BF52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4591-5B8A-4BE2-BC26-806DDB51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A4C-A841-491C-85F6-8CC71E06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4EA5-17D2-46B4-9F4C-DEBD52E3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03E8-6CC5-4761-B03B-7DF42D53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D64-552B-4809-B579-AE657A90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8147-8A9D-4D65-98FF-C5B21D4C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1C04-A6C4-4B1C-8C45-C2EA44D4F6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rezentaci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akhalin.info/img/news/35711/060405_e2.jpg" TargetMode="External"/><Relationship Id="rId2" Type="http://schemas.openxmlformats.org/officeDocument/2006/relationships/hyperlink" Target="http://www.rtr.spb.ru/vesti/vesti_2007/upload/20-11-2007/Ice.jpg" TargetMode="External"/><Relationship Id="rId3" Type="http://schemas.openxmlformats.org/officeDocument/2006/relationships/hyperlink" Target="http://www.angara.net/text/07/0314/23.jpg" TargetMode="External"/><Relationship Id="rId4" Type="http://schemas.openxmlformats.org/officeDocument/2006/relationships/hyperlink" Target="http://img-fotki.yandex.ru/get/2710/ily7542.f/0_2a84e_8f79afe4" TargetMode="External"/><Relationship Id="rId5" Type="http://schemas.openxmlformats.org/officeDocument/2006/relationships/hyperlink" Target="http://www.hacklife.ru/files/images/drowning.jpg" TargetMode="External"/><Relationship Id="rId6" Type="http://schemas.openxmlformats.org/officeDocument/2006/relationships/hyperlink" Target="http://artemovsk.info/uploads/posts/1231508723_3.jpg" TargetMode="External"/><Relationship Id="rId7" Type="http://schemas.openxmlformats.org/officeDocument/2006/relationships/hyperlink" Target="http://www.stavropolye.tv/upload/iblock/613/ampyprz%20hby.jpg" TargetMode="External"/><Relationship Id="rId8" Type="http://schemas.openxmlformats.org/officeDocument/2006/relationships/hyperlink" Target="http://cxid.info/photo/499ecf4656bcfd83e887baf733086057.jpg" TargetMode="External"/><Relationship Id="rId9" Type="http://schemas.openxmlformats.org/officeDocument/2006/relationships/hyperlink" Target="http://wsdance.com/invforum/uploads/post-20-1108332791.jpg" TargetMode="External"/><Relationship Id="rId10" Type="http://schemas.openxmlformats.org/officeDocument/2006/relationships/hyperlink" Target="http://www.kovrov-city.ru/news/images/big/835.jpg" TargetMode="External"/><Relationship Id="rId11" Type="http://schemas.openxmlformats.org/officeDocument/2006/relationships/hyperlink" Target="http://www.ostashkov.ru/foto/img-42774.jpeg" TargetMode="External"/><Relationship Id="rId12" Type="http://schemas.openxmlformats.org/officeDocument/2006/relationships/hyperlink" Target="http://rcio.pnzgu.ru/personal/58/1/4/pe01981_.gif" TargetMode="External"/><Relationship Id="rId13" Type="http://schemas.openxmlformats.org/officeDocument/2006/relationships/hyperlink" Target="http://www.bel.ru/pics/ico/169/81835.jpg" TargetMode="External"/><Relationship Id="rId14" Type="http://schemas.openxmlformats.org/officeDocument/2006/relationships/hyperlink" Target="http://www.kaliningrad-fishing.ru/zhur-mix/rr/0074-2.jpg" TargetMode="External"/><Relationship Id="rId15" Type="http://schemas.openxmlformats.org/officeDocument/2006/relationships/hyperlink" Target="http://www.practica.ru/FirstAid/Pictures/87-1.jpg" TargetMode="External"/><Relationship Id="rId16" Type="http://schemas.openxmlformats.org/officeDocument/2006/relationships/hyperlink" Target="http://informpskov.ru/pictures/25184_20051207163842.jpg" TargetMode="External"/><Relationship Id="rId17" Type="http://schemas.openxmlformats.org/officeDocument/2006/relationships/hyperlink" Target="http://www.izh2.ru/news/uploads/posts/2008-12/1229506424_02_novyjj-razmer.jpg" TargetMode="External"/><Relationship Id="rId18" Type="http://schemas.openxmlformats.org/officeDocument/2006/relationships/hyperlink" Target="http://www.spas-extreme.ru/upload/iblock/e95/e956c7c49ef44125f4fbf86aa9a83c94.gi" TargetMode="External"/><Relationship Id="rId19" Type="http://schemas.openxmlformats.org/officeDocument/2006/relationships/hyperlink" Target="http://smolniy-venor.narod.ru/photo20.jpg" TargetMode="External"/><Relationship Id="rId20" Type="http://schemas.openxmlformats.org/officeDocument/2006/relationships/hyperlink" Target="http://www.kaliningrad-fishing.ru/zhur-mix/rr/0074-3.jpg" TargetMode="External"/><Relationship Id="rId21" Type="http://schemas.openxmlformats.org/officeDocument/2006/relationships/hyperlink" Target="http://img-fotki.yandex.ru/get/0/vigon2009.0/0_236_c8a578e0_XL" TargetMode="External"/><Relationship Id="rId22" Type="http://schemas.openxmlformats.org/officeDocument/2006/relationships/hyperlink" Target="http://www.ppmurmansk.ru/images/foto/20081223172210.jpg" TargetMode="External"/><Relationship Id="rId23" Type="http://schemas.openxmlformats.org/officeDocument/2006/relationships/hyperlink" Target="http://www.murzilka.org/data/files/Image/01.2008/09.jpg" TargetMode="External"/><Relationship Id="rId24" Type="http://schemas.openxmlformats.org/officeDocument/2006/relationships/hyperlink" Target="http://www.practica.ru/FirstAid/Pictures/87-2.jpg" TargetMode="External"/><Relationship Id="rId25" Type="http://schemas.openxmlformats.org/officeDocument/2006/relationships/hyperlink" Target="http://informpskov.ru/pictures/25184_20051207163856.jpg" TargetMode="External"/><Relationship Id="rId26" Type="http://schemas.openxmlformats.org/officeDocument/2006/relationships/hyperlink" Target="http://www.interpress.ru/getfull.php?name=143090" TargetMode="External"/><Relationship Id="rId27" Type="http://schemas.openxmlformats.org/officeDocument/2006/relationships/hyperlink" Target="http://www.practica.ru/FirstAid/Pictures/88-4.jpg" TargetMode="External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9640" y="18900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99"/>
                </a:solidFill>
                <a:latin typeface="Arial"/>
              </a:rPr>
              <a:t>Инструктаж по поведению на ль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060405_e2"/>
          <p:cNvPicPr/>
          <p:nvPr/>
        </p:nvPicPr>
        <p:blipFill>
          <a:blip r:embed="rId1"/>
          <a:stretch/>
        </p:blipFill>
        <p:spPr>
          <a:xfrm>
            <a:off x="1979640" y="1700280"/>
            <a:ext cx="5073480" cy="4059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250920" y="5877000"/>
            <a:ext cx="8569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3714840" y="6429240"/>
            <a:ext cx="2214360" cy="428760"/>
          </a:xfrm>
          <a:prstGeom prst="rect">
            <a:avLst/>
          </a:prstGeom>
          <a:solidFill>
            <a:srgbClr val="bfbfbf"/>
          </a:solidFill>
          <a:ln w="38160">
            <a:solidFill>
              <a:srgbClr val="f1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zentaci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24000" y="5516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аникуйте. Дышите как можно глубже и медлен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0074-2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Делайте ногами непрерывные движения так, словно вы крутите педали велосипеда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87-1"/>
          <p:cNvPicPr/>
          <p:nvPr/>
        </p:nvPicPr>
        <p:blipFill>
          <a:blip r:embed="rId1"/>
          <a:stretch/>
        </p:blipFill>
        <p:spPr>
          <a:xfrm>
            <a:off x="2195640" y="836640"/>
            <a:ext cx="4457520" cy="3944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ытайтесь сразу выбраться на лед. Вокруг полыньи лед очень хрупкий и не выдержит тяжести вашего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25184_20051207163842"/>
          <p:cNvPicPr/>
          <p:nvPr/>
        </p:nvPicPr>
        <p:blipFill>
          <a:blip r:embed="rId1"/>
          <a:stretch/>
        </p:blipFill>
        <p:spPr>
          <a:xfrm>
            <a:off x="1763640" y="1052640"/>
            <a:ext cx="5472360" cy="367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родвигайтесь в сторону ближайшего берега, кроша на своем пути ледяную кромку рук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1229506424_02_novyjj-razmer"/>
          <p:cNvPicPr/>
          <p:nvPr/>
        </p:nvPicPr>
        <p:blipFill>
          <a:blip r:embed="rId1"/>
          <a:stretch/>
        </p:blipFill>
        <p:spPr>
          <a:xfrm>
            <a:off x="1979640" y="907920"/>
            <a:ext cx="5064120" cy="3840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50920" y="4149720"/>
            <a:ext cx="86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Как только лед перестанет ломаться под вашими ударами, положите руки на лед, протянув их как можно дальше, и изо всех сил толкайтесь ногами, стараясь придать туловищу горизонтальное положени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e956c7c49ef44125f4fbf86aa9a83c94"/>
          <p:cNvPicPr/>
          <p:nvPr/>
        </p:nvPicPr>
        <p:blipFill>
          <a:blip r:embed="rId1"/>
          <a:stretch/>
        </p:blipFill>
        <p:spPr>
          <a:xfrm>
            <a:off x="3276720" y="765000"/>
            <a:ext cx="2381040" cy="333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50920" y="494172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Не опирайтесь на лед всей тяжестью тела: он может снова провалиться, и вы с головой окунетесь в во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oto20"/>
          <p:cNvPicPr/>
          <p:nvPr/>
        </p:nvPicPr>
        <p:blipFill>
          <a:blip r:embed="rId1"/>
          <a:stretch/>
        </p:blipFill>
        <p:spPr>
          <a:xfrm>
            <a:off x="1763640" y="1052640"/>
            <a:ext cx="583272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0920" y="479736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остарайтесь добиться того, чтобы ваше тело оказалось вровень со льдом. После этого наползайте на лед, продолжая отталкиваться ногами и помогая себе руками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0074-3"/>
          <p:cNvPicPr/>
          <p:nvPr/>
        </p:nvPicPr>
        <p:blipFill>
          <a:blip r:embed="rId1"/>
          <a:stretch/>
        </p:blipFill>
        <p:spPr>
          <a:xfrm>
            <a:off x="971640" y="1341360"/>
            <a:ext cx="7704000" cy="322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0920" y="5157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бравшись на лед, распластайтесь на нем и ползите вперед, не пытаясь подняться на н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untitledвап"/>
          <p:cNvPicPr/>
          <p:nvPr/>
        </p:nvPicPr>
        <p:blipFill>
          <a:blip r:embed="rId1"/>
          <a:srcRect l="0" t="0" r="0" b="18438"/>
          <a:stretch/>
        </p:blipFill>
        <p:spPr>
          <a:xfrm>
            <a:off x="1332000" y="907920"/>
            <a:ext cx="6473880" cy="3961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Ближе к берегу, где лед крепче, повернитесь на бок и перекатывайтесь в сторону бере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20081223172210"/>
          <p:cNvPicPr/>
          <p:nvPr/>
        </p:nvPicPr>
        <p:blipFill>
          <a:blip r:embed="rId1"/>
          <a:stretch/>
        </p:blipFill>
        <p:spPr>
          <a:xfrm>
            <a:off x="1476360" y="836640"/>
            <a:ext cx="6049800" cy="4062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50920" y="494172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бравшись на берег, не останавливайтесь, чтобы не замерзнуть окончательно. Бегом добирайтесь до ближайшего теплого по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09"/>
          <p:cNvPicPr/>
          <p:nvPr/>
        </p:nvPicPr>
        <p:blipFill>
          <a:blip r:embed="rId1"/>
          <a:stretch/>
        </p:blipFill>
        <p:spPr>
          <a:xfrm>
            <a:off x="2627280" y="836640"/>
            <a:ext cx="353844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95280" y="5373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переходить по льду, если он толще 5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ce"/>
          <p:cNvPicPr/>
          <p:nvPr/>
        </p:nvPicPr>
        <p:blipFill>
          <a:blip r:embed="rId1"/>
          <a:stretch/>
        </p:blipFill>
        <p:spPr>
          <a:xfrm>
            <a:off x="1547640" y="404640"/>
            <a:ext cx="597708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пуститесь на колени или лягте у кромки льда и протяните пострадавшему руку или какой-нибудь предмет (палку, веревку, одеж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87-2"/>
          <p:cNvPicPr/>
          <p:nvPr/>
        </p:nvPicPr>
        <p:blipFill>
          <a:blip r:embed="rId1"/>
          <a:stretch/>
        </p:blipFill>
        <p:spPr>
          <a:xfrm>
            <a:off x="1908000" y="765000"/>
            <a:ext cx="4824720" cy="423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79280" y="465300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ужно передвигаться по льду, ложитесь плашмя и медленно подползайте к провалившемуся, пока он не ухватится за протянутый ему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25184_20051207163856"/>
          <p:cNvPicPr/>
          <p:nvPr/>
        </p:nvPicPr>
        <p:blipFill>
          <a:blip r:embed="rId1"/>
          <a:stretch/>
        </p:blipFill>
        <p:spPr>
          <a:xfrm>
            <a:off x="1116000" y="836640"/>
            <a:ext cx="6192720" cy="3801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тащив пострадавшего из воды, положите его на лед плашмя, не позволяйте ему встать на ноги и идти по ль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getfull"/>
          <p:cNvPicPr/>
          <p:nvPr/>
        </p:nvPicPr>
        <p:blipFill>
          <a:blip r:embed="rId1"/>
          <a:stretch/>
        </p:blipFill>
        <p:spPr>
          <a:xfrm>
            <a:off x="1403280" y="907920"/>
            <a:ext cx="5977080" cy="4030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50920" y="5013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е удается вытащить пострадавшего из воды с помощью протянутого предмета, но рядом есть помощники, организуйте живую цеп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88-4"/>
          <p:cNvPicPr/>
          <p:nvPr/>
        </p:nvPicPr>
        <p:blipFill>
          <a:blip r:embed="rId1"/>
          <a:stretch/>
        </p:blipFill>
        <p:spPr>
          <a:xfrm>
            <a:off x="2268360" y="765000"/>
            <a:ext cx="4321440" cy="417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дин за другим выползайте, распластавшись по льду, и захватывайте лежащего впереди спасателя за лоды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22012009331"/>
          <p:cNvPicPr/>
          <p:nvPr/>
        </p:nvPicPr>
        <p:blipFill>
          <a:blip r:embed="rId1"/>
          <a:stretch/>
        </p:blipFill>
        <p:spPr>
          <a:xfrm>
            <a:off x="1763640" y="907920"/>
            <a:ext cx="5400720" cy="405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50920" y="5516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тащив из воды, проверьте его дыхание и пуль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88-5"/>
          <p:cNvPicPr/>
          <p:nvPr/>
        </p:nvPicPr>
        <p:blipFill>
          <a:blip r:embed="rId1"/>
          <a:stretch/>
        </p:blipFill>
        <p:spPr>
          <a:xfrm>
            <a:off x="2268360" y="836640"/>
            <a:ext cx="445788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50920" y="508464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у пострадавшего рвота, поверните его голову набок и удалите изо рта рвотные мас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89-6"/>
          <p:cNvPicPr/>
          <p:nvPr/>
        </p:nvPicPr>
        <p:blipFill>
          <a:blip r:embed="rId1"/>
          <a:stretch/>
        </p:blipFill>
        <p:spPr>
          <a:xfrm>
            <a:off x="2050920" y="836640"/>
            <a:ext cx="4673880" cy="421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50920" y="5013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он дышит, перенесите его в теплое место, снимите с него мокрую одежду, заверните в одеяла и вызовите вра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89-7"/>
          <p:cNvPicPr/>
          <p:nvPr/>
        </p:nvPicPr>
        <p:blipFill>
          <a:blip r:embed="rId1"/>
          <a:stretch/>
        </p:blipFill>
        <p:spPr>
          <a:xfrm>
            <a:off x="2268360" y="765000"/>
            <a:ext cx="42818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79280" y="189000"/>
            <a:ext cx="8713800" cy="67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khalin.info/img/news/35711/060405_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tr.spb.ru/vesti/vesti_2007/upload/20-11-2007/Ic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ngara.net/text/07/0314/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-fotki.yandex.ru/get/2710/ily7542.f/0_2a84e_8f79afe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hacklife.ru/files/images/drownin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rtemovsk.info/uploads/posts/1231508723_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stavropolye.tv/upload/iblock/613/ampyprz%20hby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cxid.info/photo/499ecf4656bcfd83e887baf733086057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sdance.com/invforum/uploads/post-20-110833279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ovrov-city.ru/news/images/big/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ostashkov.ru/foto/img-42774.jpe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rcio.pnzgu.ru/personal/58/1/4/pe01981_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bel.ru/pics/ico/169/81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kaliningrad-fishing.ru/zhur-mix/rr/0074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practica.ru/FirstAid/Pictures/87-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informpskov.ru/pictures/25184_2005120716384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izh2.ru/news/uploads/posts/2008-12/1229506424_02_novyjj-razme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www.spas-extreme.ru/upload/iblock/e95/e956c7c49ef44125f4fbf86aa9a83c94.g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smolniy-venor.narod.ru/photo2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www.kaliningrad-fishing.ru/zhur-mix/rr/0074-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img-fotki.yandex.ru/get/0/vigon2009.0/0_236_c8a578e0_X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www.ppmurmansk.ru/images/foto/2008122317221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www.murzilka.org/data/files/Image/01.2008/0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ww.practica.ru/FirstAid/Pictures/87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informpskov.ru/pictures/25184_2005120716385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www.interpress.ru/getfull.php?name=14309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www.practica.ru/FirstAid/Pictures/88-4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ov.cap.ru/Home/70/0004/2009-01-23/22012009331.jpg    слайд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79280" y="189000"/>
            <a:ext cx="871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8-5.jpg   слайд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6.jpg    слайд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7.jpg     слайд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9sko.narod.ru/pam/pam1.html   правила поведения на ль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0bj.ru/water.php?id=16   помощь пострадавш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5300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кататься на коньках по льду, который толще 10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23"/>
          <p:cNvPicPr/>
          <p:nvPr/>
        </p:nvPicPr>
        <p:blipFill>
          <a:blip r:embed="rId1"/>
          <a:stretch/>
        </p:blipFill>
        <p:spPr>
          <a:xfrm>
            <a:off x="1332000" y="404640"/>
            <a:ext cx="6049800" cy="453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324000" y="5300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выходить одному на неокрепший ле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untitledкенг"/>
          <p:cNvPicPr/>
          <p:nvPr/>
        </p:nvPicPr>
        <p:blipFill>
          <a:blip r:embed="rId1"/>
          <a:stretch/>
        </p:blipFill>
        <p:spPr>
          <a:xfrm>
            <a:off x="755640" y="260280"/>
            <a:ext cx="2602080" cy="472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rowning"/>
          <p:cNvPicPr/>
          <p:nvPr/>
        </p:nvPicPr>
        <p:blipFill>
          <a:blip r:embed="rId2"/>
          <a:stretch/>
        </p:blipFill>
        <p:spPr>
          <a:xfrm>
            <a:off x="4140360" y="836640"/>
            <a:ext cx="458460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79280" y="5445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собираться группой на небольшом участке ль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1231508723_3"/>
          <p:cNvPicPr/>
          <p:nvPr/>
        </p:nvPicPr>
        <p:blipFill>
          <a:blip r:embed="rId1"/>
          <a:stretch/>
        </p:blipFill>
        <p:spPr>
          <a:xfrm>
            <a:off x="1763640" y="692280"/>
            <a:ext cx="532944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79280" y="5300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проверять прочность льда ударами ног, палками, клюшкам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ampyprz%20hby"/>
          <p:cNvPicPr/>
          <p:nvPr/>
        </p:nvPicPr>
        <p:blipFill>
          <a:blip r:embed="rId1"/>
          <a:srcRect l="0" t="0" r="0" b="24849"/>
          <a:stretch/>
        </p:blipFill>
        <p:spPr>
          <a:xfrm>
            <a:off x="179280" y="260280"/>
            <a:ext cx="4969080" cy="2800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499ecf4656bcfd83e887baf733086057"/>
          <p:cNvPicPr/>
          <p:nvPr/>
        </p:nvPicPr>
        <p:blipFill>
          <a:blip r:embed="rId2"/>
          <a:stretch/>
        </p:blipFill>
        <p:spPr>
          <a:xfrm>
            <a:off x="4140360" y="2565360"/>
            <a:ext cx="40813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16000" y="5157720"/>
            <a:ext cx="89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переходить водоем по неокрепшему льду друг за другом на небольшом расстоя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post-20-1108332791"/>
          <p:cNvPicPr/>
          <p:nvPr/>
        </p:nvPicPr>
        <p:blipFill>
          <a:blip r:embed="rId1"/>
          <a:stretch/>
        </p:blipFill>
        <p:spPr>
          <a:xfrm>
            <a:off x="179280" y="115920"/>
            <a:ext cx="4753080" cy="2860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835"/>
          <p:cNvPicPr/>
          <p:nvPr/>
        </p:nvPicPr>
        <p:blipFill>
          <a:blip r:embed="rId2"/>
          <a:stretch/>
        </p:blipFill>
        <p:spPr>
          <a:xfrm>
            <a:off x="4427640" y="2205000"/>
            <a:ext cx="3936960" cy="292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79280" y="494172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идти по льду, засунув руки в карманы. Нести за спиной прочно надетый рюкз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img-42774"/>
          <p:cNvPicPr/>
          <p:nvPr/>
        </p:nvPicPr>
        <p:blipFill>
          <a:blip r:embed="rId1"/>
          <a:stretch/>
        </p:blipFill>
        <p:spPr>
          <a:xfrm>
            <a:off x="2124000" y="692280"/>
            <a:ext cx="517860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79280" y="5373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спускаться с горок на лыжах и санках в незнакомом мес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pe01981_"/>
          <p:cNvPicPr/>
          <p:nvPr/>
        </p:nvPicPr>
        <p:blipFill>
          <a:blip r:embed="rId1"/>
          <a:stretch/>
        </p:blipFill>
        <p:spPr>
          <a:xfrm>
            <a:off x="1403280" y="836640"/>
            <a:ext cx="3421080" cy="3527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81835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651640" y="2276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50:18Z</dcterms:created>
  <dc:creator>Ershova</dc:creator>
  <dc:description/>
  <dc:language>en-US</dc:language>
  <cp:lastModifiedBy>Admin</cp:lastModifiedBy>
  <dcterms:modified xsi:type="dcterms:W3CDTF">2012-08-05T07:43:10Z</dcterms:modified>
  <cp:revision>46</cp:revision>
  <dc:subject/>
  <dc:title>Слайд 1</dc:title>
</cp:coreProperties>
</file>