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04FB-AF20-44B8-B864-F11D29F0AF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A93C-747C-4661-AAA8-31DB0BF242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D77F-CC9A-45F4-B8DA-59AE273EDC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8BAA-EE99-4188-ACBE-C699A337CF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9262-EEAE-42A6-8373-CCA9414866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F88F-3BA2-446E-B94D-C9CF789C70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AD29-86D6-4E0C-9D28-69547C39E5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442C-19A2-4A6D-A99D-C92B69BD60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9957-E7B5-4DA9-8D8B-96115CDE54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4ADD-1308-4E4E-A48A-68AC6E69BD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6845-8540-47F2-A806-39AB92ABC3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EA6A-7CFD-4A54-AE35-F498A5B035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19B3-3A0F-4737-9010-14A895361F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C32D-216E-453D-8274-23AFBB37DC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E2DE-79D6-486E-89BA-3E163F2D5E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0856-2316-4B35-AB70-0B903620A0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1F44-9FE8-45A9-A747-90CE99B8D2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439E-CBA3-49CA-8ED9-698C11AC0F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EB5F-3EB1-4D52-9560-8B0DFC96EE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AB7D-E25C-40D4-AE77-C72C97D4EC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8EB6-C1F8-4B9C-A816-A134D9ACC8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98B7-0E0D-464D-93A5-212853F3F4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8FF4-C573-4601-B02C-49AA5693EC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459B-8B53-4D81-95A5-40EB3667D2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93A0-E56F-4C54-9079-A9A0BED4B1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2923-16F3-4E74-AA00-777F6A6E4C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C052-588E-4841-A903-7ACD2AF52B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3B7D-8A67-4C7E-8980-3A7463617A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3BFD-5F0B-469C-8816-F2C1309623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FE0A-4CF0-4986-AECE-073DF990A0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6FCD-71EF-4549-8C47-D2C54227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44A-7F82-4C9A-9B14-29659322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27DD-9E5B-49A2-B208-E94D7BA3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2BAD-09E0-4E63-95F1-A8C2B5C2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058C-D464-485C-8A16-144A4ED6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F1BB-9188-487E-9541-B7E149BA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225-B325-43CA-8019-22ABD875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FCAB-9B6B-4BE6-8BD5-6E7650E3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7ABE-38A8-49A8-A3FF-A5A85F1E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356A-3B9C-4CF2-88C2-0FDC936E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390-F2C1-4D49-AABD-25D21599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CEC7-76C9-47E5-939C-4B1B5FA4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85C8-A8D2-42AC-869C-A5D31A6F0C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akhalin.info/img/news/35711/060405_e2.jpg" TargetMode="External"/><Relationship Id="rId2" Type="http://schemas.openxmlformats.org/officeDocument/2006/relationships/hyperlink" Target="http://www.rtr.spb.ru/vesti/vesti_2007/upload/20-11-2007/Ice.jpg" TargetMode="External"/><Relationship Id="rId3" Type="http://schemas.openxmlformats.org/officeDocument/2006/relationships/hyperlink" Target="http://www.angara.net/text/07/0314/23.jpg" TargetMode="External"/><Relationship Id="rId4" Type="http://schemas.openxmlformats.org/officeDocument/2006/relationships/hyperlink" Target="http://img-fotki.yandex.ru/get/2710/ily7542.f/0_2a84e_8f79afe4" TargetMode="External"/><Relationship Id="rId5" Type="http://schemas.openxmlformats.org/officeDocument/2006/relationships/hyperlink" Target="http://www.hacklife.ru/files/images/drowning.jpg" TargetMode="External"/><Relationship Id="rId6" Type="http://schemas.openxmlformats.org/officeDocument/2006/relationships/hyperlink" Target="http://artemovsk.info/uploads/posts/1231508723_3.jpg" TargetMode="External"/><Relationship Id="rId7" Type="http://schemas.openxmlformats.org/officeDocument/2006/relationships/hyperlink" Target="http://www.stavropolye.tv/upload/iblock/613/ampyprz%20hby.jpg" TargetMode="External"/><Relationship Id="rId8" Type="http://schemas.openxmlformats.org/officeDocument/2006/relationships/hyperlink" Target="http://cxid.info/photo/499ecf4656bcfd83e887baf733086057.jpg" TargetMode="External"/><Relationship Id="rId9" Type="http://schemas.openxmlformats.org/officeDocument/2006/relationships/hyperlink" Target="http://wsdance.com/invforum/uploads/post-20-1108332791.jpg" TargetMode="External"/><Relationship Id="rId10" Type="http://schemas.openxmlformats.org/officeDocument/2006/relationships/hyperlink" Target="http://www.kovrov-city.ru/news/images/big/835.jpg" TargetMode="External"/><Relationship Id="rId11" Type="http://schemas.openxmlformats.org/officeDocument/2006/relationships/hyperlink" Target="http://www.ostashkov.ru/foto/img-42774.jpeg" TargetMode="External"/><Relationship Id="rId12" Type="http://schemas.openxmlformats.org/officeDocument/2006/relationships/hyperlink" Target="http://rcio.pnzgu.ru/personal/58/1/4/pe01981_.gif" TargetMode="External"/><Relationship Id="rId13" Type="http://schemas.openxmlformats.org/officeDocument/2006/relationships/hyperlink" Target="http://www.bel.ru/pics/ico/169/81835.jpg" TargetMode="External"/><Relationship Id="rId14" Type="http://schemas.openxmlformats.org/officeDocument/2006/relationships/hyperlink" Target="http://www.kaliningrad-fishing.ru/zhur-mix/rr/0074-2.jpg" TargetMode="External"/><Relationship Id="rId15" Type="http://schemas.openxmlformats.org/officeDocument/2006/relationships/hyperlink" Target="http://www.practica.ru/FirstAid/Pictures/87-1.jpg" TargetMode="External"/><Relationship Id="rId16" Type="http://schemas.openxmlformats.org/officeDocument/2006/relationships/hyperlink" Target="http://informpskov.ru/pictures/25184_20051207163842.jpg" TargetMode="External"/><Relationship Id="rId17" Type="http://schemas.openxmlformats.org/officeDocument/2006/relationships/hyperlink" Target="http://www.izh2.ru/news/uploads/posts/2008-12/1229506424_02_novyjj-razmer.jpg" TargetMode="External"/><Relationship Id="rId18" Type="http://schemas.openxmlformats.org/officeDocument/2006/relationships/hyperlink" Target="http://www.spas-extreme.ru/upload/iblock/e95/e956c7c49ef44125f4fbf86aa9a83c94.gi" TargetMode="External"/><Relationship Id="rId19" Type="http://schemas.openxmlformats.org/officeDocument/2006/relationships/hyperlink" Target="http://smolniy-venor.narod.ru/photo20.jpg" TargetMode="External"/><Relationship Id="rId20" Type="http://schemas.openxmlformats.org/officeDocument/2006/relationships/hyperlink" Target="http://www.kaliningrad-fishing.ru/zhur-mix/rr/0074-3.jpg" TargetMode="External"/><Relationship Id="rId21" Type="http://schemas.openxmlformats.org/officeDocument/2006/relationships/hyperlink" Target="http://img-fotki.yandex.ru/get/0/vigon2009.0/0_236_c8a578e0_XL" TargetMode="External"/><Relationship Id="rId22" Type="http://schemas.openxmlformats.org/officeDocument/2006/relationships/hyperlink" Target="http://www.ppmurmansk.ru/images/foto/20081223172210.jpg" TargetMode="External"/><Relationship Id="rId23" Type="http://schemas.openxmlformats.org/officeDocument/2006/relationships/hyperlink" Target="http://www.murzilka.org/data/files/Image/01.2008/09.jpg" TargetMode="External"/><Relationship Id="rId24" Type="http://schemas.openxmlformats.org/officeDocument/2006/relationships/hyperlink" Target="http://www.practica.ru/FirstAid/Pictures/87-2.jpg" TargetMode="External"/><Relationship Id="rId25" Type="http://schemas.openxmlformats.org/officeDocument/2006/relationships/hyperlink" Target="http://informpskov.ru/pictures/25184_20051207163856.jpg" TargetMode="External"/><Relationship Id="rId26" Type="http://schemas.openxmlformats.org/officeDocument/2006/relationships/hyperlink" Target="http://www.interpress.ru/getfull.php?name=143090" TargetMode="External"/><Relationship Id="rId27" Type="http://schemas.openxmlformats.org/officeDocument/2006/relationships/hyperlink" Target="http://www.practica.ru/FirstAid/Pictures/88-4.jpg" TargetMode="External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9640" y="18900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99"/>
                </a:solidFill>
                <a:latin typeface="Arial"/>
              </a:rPr>
              <a:t>Инструктаж по поведению на ль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060405_e2"/>
          <p:cNvPicPr/>
          <p:nvPr/>
        </p:nvPicPr>
        <p:blipFill>
          <a:blip r:embed="rId1"/>
          <a:stretch/>
        </p:blipFill>
        <p:spPr>
          <a:xfrm>
            <a:off x="1979640" y="1700280"/>
            <a:ext cx="5073480" cy="4059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250920" y="5877000"/>
            <a:ext cx="8569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3714840" y="6429240"/>
            <a:ext cx="221436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24000" y="55166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аникуйте. Дышите как можно глубже и медлен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0074-2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Делайте ногами непрерывные движения так, словно вы крутите педали велосипеда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87-1"/>
          <p:cNvPicPr/>
          <p:nvPr/>
        </p:nvPicPr>
        <p:blipFill>
          <a:blip r:embed="rId1"/>
          <a:stretch/>
        </p:blipFill>
        <p:spPr>
          <a:xfrm>
            <a:off x="2195640" y="836640"/>
            <a:ext cx="4457520" cy="3944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ытайтесь сразу выбраться на лед. Вокруг полыньи лед очень хрупкий и не выдержит тяжести вашего т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25184_20051207163842"/>
          <p:cNvPicPr/>
          <p:nvPr/>
        </p:nvPicPr>
        <p:blipFill>
          <a:blip r:embed="rId1"/>
          <a:stretch/>
        </p:blipFill>
        <p:spPr>
          <a:xfrm>
            <a:off x="1763640" y="1052640"/>
            <a:ext cx="5472360" cy="367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Продвигайтесь в сторону ближайшего берега, кроша на своем пути ледяную кромку рук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1229506424_02_novyjj-razmer"/>
          <p:cNvPicPr/>
          <p:nvPr/>
        </p:nvPicPr>
        <p:blipFill>
          <a:blip r:embed="rId1"/>
          <a:stretch/>
        </p:blipFill>
        <p:spPr>
          <a:xfrm>
            <a:off x="1979640" y="907920"/>
            <a:ext cx="5064120" cy="3840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50920" y="4149720"/>
            <a:ext cx="86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Как только лед перестанет ломаться под вашими ударами, положите руки на лед, протянув их как можно дальше, и изо всех сил толкайтесь ногами, стараясь придать туловищу горизонтальное положение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e956c7c49ef44125f4fbf86aa9a83c94"/>
          <p:cNvPicPr/>
          <p:nvPr/>
        </p:nvPicPr>
        <p:blipFill>
          <a:blip r:embed="rId1"/>
          <a:stretch/>
        </p:blipFill>
        <p:spPr>
          <a:xfrm>
            <a:off x="3276720" y="765000"/>
            <a:ext cx="2381040" cy="3333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50920" y="494172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Не опирайтесь на лед всей тяжестью тела: он может снова провалиться, и вы с головой окунетесь в во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oto20"/>
          <p:cNvPicPr/>
          <p:nvPr/>
        </p:nvPicPr>
        <p:blipFill>
          <a:blip r:embed="rId1"/>
          <a:stretch/>
        </p:blipFill>
        <p:spPr>
          <a:xfrm>
            <a:off x="1763640" y="1052640"/>
            <a:ext cx="583272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50920" y="479736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Постарайтесь добиться того, чтобы ваше тело оказалось вровень со льдом. После этого наползайте на лед, продолжая отталкиваться ногами и помогая себе руками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0074-3"/>
          <p:cNvPicPr/>
          <p:nvPr/>
        </p:nvPicPr>
        <p:blipFill>
          <a:blip r:embed="rId1"/>
          <a:stretch/>
        </p:blipFill>
        <p:spPr>
          <a:xfrm>
            <a:off x="971640" y="1341360"/>
            <a:ext cx="7704000" cy="322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0920" y="5157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бравшись на лед, распластайтесь на нем и ползите вперед, не пытаясь подняться на н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untitledвап"/>
          <p:cNvPicPr/>
          <p:nvPr/>
        </p:nvPicPr>
        <p:blipFill>
          <a:blip r:embed="rId1"/>
          <a:srcRect l="0" t="0" r="0" b="18438"/>
          <a:stretch/>
        </p:blipFill>
        <p:spPr>
          <a:xfrm>
            <a:off x="1332000" y="907920"/>
            <a:ext cx="6473880" cy="3961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Ближе к берегу, где лед крепче, повернитесь на бок и перекатывайтесь в сторону бере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20081223172210"/>
          <p:cNvPicPr/>
          <p:nvPr/>
        </p:nvPicPr>
        <p:blipFill>
          <a:blip r:embed="rId1"/>
          <a:stretch/>
        </p:blipFill>
        <p:spPr>
          <a:xfrm>
            <a:off x="1476360" y="836640"/>
            <a:ext cx="6049800" cy="4062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50920" y="494172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бравшись на берег, не останавливайтесь, чтобы не замерзнуть окончательно. Бегом добирайтесь до ближайшего теплого помещ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09"/>
          <p:cNvPicPr/>
          <p:nvPr/>
        </p:nvPicPr>
        <p:blipFill>
          <a:blip r:embed="rId1"/>
          <a:stretch/>
        </p:blipFill>
        <p:spPr>
          <a:xfrm>
            <a:off x="2627280" y="836640"/>
            <a:ext cx="353844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95280" y="5373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переходить по льду, если он толще 5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ce"/>
          <p:cNvPicPr/>
          <p:nvPr/>
        </p:nvPicPr>
        <p:blipFill>
          <a:blip r:embed="rId1"/>
          <a:stretch/>
        </p:blipFill>
        <p:spPr>
          <a:xfrm>
            <a:off x="1547640" y="404640"/>
            <a:ext cx="597708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пуститесь на колени или лягте у кромки льда и протяните пострадавшему руку или какой-нибудь предмет (палку, веревку, одеж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87-2"/>
          <p:cNvPicPr/>
          <p:nvPr/>
        </p:nvPicPr>
        <p:blipFill>
          <a:blip r:embed="rId1"/>
          <a:stretch/>
        </p:blipFill>
        <p:spPr>
          <a:xfrm>
            <a:off x="1908000" y="765000"/>
            <a:ext cx="4824720" cy="4230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79280" y="4653000"/>
            <a:ext cx="864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ужно передвигаться по льду, ложитесь плашмя и медленно подползайте к провалившемуся, пока он не ухватится за протянутый ему 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25184_20051207163856"/>
          <p:cNvPicPr/>
          <p:nvPr/>
        </p:nvPicPr>
        <p:blipFill>
          <a:blip r:embed="rId1"/>
          <a:stretch/>
        </p:blipFill>
        <p:spPr>
          <a:xfrm>
            <a:off x="1116000" y="836640"/>
            <a:ext cx="6192720" cy="3801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тащив пострадавшего из воды, положите его на лед плашмя, не позволяйте ему встать на ноги и идти по ль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getfull"/>
          <p:cNvPicPr/>
          <p:nvPr/>
        </p:nvPicPr>
        <p:blipFill>
          <a:blip r:embed="rId1"/>
          <a:stretch/>
        </p:blipFill>
        <p:spPr>
          <a:xfrm>
            <a:off x="1403280" y="907920"/>
            <a:ext cx="5977080" cy="4030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50920" y="5013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е удается вытащить пострадавшего из воды с помощью протянутого предмета, но рядом есть помощники, организуйте живую цеп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88-4"/>
          <p:cNvPicPr/>
          <p:nvPr/>
        </p:nvPicPr>
        <p:blipFill>
          <a:blip r:embed="rId1"/>
          <a:stretch/>
        </p:blipFill>
        <p:spPr>
          <a:xfrm>
            <a:off x="2268360" y="765000"/>
            <a:ext cx="4321440" cy="4173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дин за другим выползайте, распластавшись по льду, и захватывайте лежащего впереди спасателя за лодыж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22012009331"/>
          <p:cNvPicPr/>
          <p:nvPr/>
        </p:nvPicPr>
        <p:blipFill>
          <a:blip r:embed="rId1"/>
          <a:stretch/>
        </p:blipFill>
        <p:spPr>
          <a:xfrm>
            <a:off x="1763640" y="907920"/>
            <a:ext cx="5400720" cy="405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50920" y="551664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тащив из воды, проверьте его дыхание и пуль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88-5"/>
          <p:cNvPicPr/>
          <p:nvPr/>
        </p:nvPicPr>
        <p:blipFill>
          <a:blip r:embed="rId1"/>
          <a:stretch/>
        </p:blipFill>
        <p:spPr>
          <a:xfrm>
            <a:off x="2268360" y="836640"/>
            <a:ext cx="445788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50920" y="508464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у пострадавшего рвота, поверните его голову набок и удалите изо рта рвотные мас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89-6"/>
          <p:cNvPicPr/>
          <p:nvPr/>
        </p:nvPicPr>
        <p:blipFill>
          <a:blip r:embed="rId1"/>
          <a:stretch/>
        </p:blipFill>
        <p:spPr>
          <a:xfrm>
            <a:off x="2050920" y="836640"/>
            <a:ext cx="4673880" cy="421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50920" y="5013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он дышит, перенесите его в теплое место, снимите с него мокрую одежду, заверните в одеяла и вызовите вра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89-7"/>
          <p:cNvPicPr/>
          <p:nvPr/>
        </p:nvPicPr>
        <p:blipFill>
          <a:blip r:embed="rId1"/>
          <a:stretch/>
        </p:blipFill>
        <p:spPr>
          <a:xfrm>
            <a:off x="2268360" y="765000"/>
            <a:ext cx="428184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79280" y="189000"/>
            <a:ext cx="8713800" cy="67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khalin.info/img/news/35711/060405_e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tr.spb.ru/vesti/vesti_2007/upload/20-11-2007/Ic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ngara.net/text/07/0314/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g-fotki.yandex.ru/get/2710/ily7542.f/0_2a84e_8f79afe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hacklife.ru/files/images/drownin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rtemovsk.info/uploads/posts/1231508723_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stavropolye.tv/upload/iblock/613/ampyprz%20hby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cxid.info/photo/499ecf4656bcfd83e887baf733086057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sdance.com/invforum/uploads/post-20-110833279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ovrov-city.ru/news/images/big/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ostashkov.ru/foto/img-42774.jpe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rcio.pnzgu.ru/personal/58/1/4/pe01981_.gi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bel.ru/pics/ico/169/81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kaliningrad-fishing.ru/zhur-mix/rr/0074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practica.ru/FirstAid/Pictures/87-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informpskov.ru/pictures/25184_2005120716384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izh2.ru/news/uploads/posts/2008-12/1229506424_02_novyjj-razmer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www.spas-extreme.ru/upload/iblock/e95/e956c7c49ef44125f4fbf86aa9a83c94.g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smolniy-venor.narod.ru/photo2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www.kaliningrad-fishing.ru/zhur-mix/rr/0074-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img-fotki.yandex.ru/get/0/vigon2009.0/0_236_c8a578e0_X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www.ppmurmansk.ru/images/foto/2008122317221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www.murzilka.org/data/files/Image/01.2008/0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www.practica.ru/FirstAid/Pictures/87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informpskov.ru/pictures/25184_2005120716385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://www.interpress.ru/getfull.php?name=14309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://www.practica.ru/FirstAid/Pictures/88-4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ov.cap.ru/Home/70/0004/2009-01-23/22012009331.jpg    слайд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79280" y="189000"/>
            <a:ext cx="871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8-5.jpg   слайд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6.jpg    слайд 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7.jpg     слайд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9sko.narod.ru/pam/pam1.html   правила поведения на ль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0bj.ru/water.php?id=16   помощь пострадавше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5300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кататься на коньках по льду, который толще 10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23"/>
          <p:cNvPicPr/>
          <p:nvPr/>
        </p:nvPicPr>
        <p:blipFill>
          <a:blip r:embed="rId1"/>
          <a:stretch/>
        </p:blipFill>
        <p:spPr>
          <a:xfrm>
            <a:off x="1332000" y="404640"/>
            <a:ext cx="6049800" cy="453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24000" y="5300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выходить одному на неокрепший ле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untitledкенг"/>
          <p:cNvPicPr/>
          <p:nvPr/>
        </p:nvPicPr>
        <p:blipFill>
          <a:blip r:embed="rId1"/>
          <a:stretch/>
        </p:blipFill>
        <p:spPr>
          <a:xfrm>
            <a:off x="755640" y="260280"/>
            <a:ext cx="2602080" cy="4724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drowning"/>
          <p:cNvPicPr/>
          <p:nvPr/>
        </p:nvPicPr>
        <p:blipFill>
          <a:blip r:embed="rId2"/>
          <a:stretch/>
        </p:blipFill>
        <p:spPr>
          <a:xfrm>
            <a:off x="4140360" y="836640"/>
            <a:ext cx="458460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79280" y="5445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собираться группой на небольшом участке ль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1231508723_3"/>
          <p:cNvPicPr/>
          <p:nvPr/>
        </p:nvPicPr>
        <p:blipFill>
          <a:blip r:embed="rId1"/>
          <a:stretch/>
        </p:blipFill>
        <p:spPr>
          <a:xfrm>
            <a:off x="1763640" y="692280"/>
            <a:ext cx="532944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79280" y="5300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проверять прочность льда ударами ног, палками, клюшкам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ampyprz%20hby"/>
          <p:cNvPicPr/>
          <p:nvPr/>
        </p:nvPicPr>
        <p:blipFill>
          <a:blip r:embed="rId1"/>
          <a:srcRect l="0" t="0" r="0" b="24849"/>
          <a:stretch/>
        </p:blipFill>
        <p:spPr>
          <a:xfrm>
            <a:off x="179280" y="260280"/>
            <a:ext cx="4969080" cy="2800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499ecf4656bcfd83e887baf733086057"/>
          <p:cNvPicPr/>
          <p:nvPr/>
        </p:nvPicPr>
        <p:blipFill>
          <a:blip r:embed="rId2"/>
          <a:stretch/>
        </p:blipFill>
        <p:spPr>
          <a:xfrm>
            <a:off x="4140360" y="2565360"/>
            <a:ext cx="40813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16000" y="5157720"/>
            <a:ext cx="89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переходить водоем по неокрепшему льду друг за другом на небольшом расстоя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post-20-1108332791"/>
          <p:cNvPicPr/>
          <p:nvPr/>
        </p:nvPicPr>
        <p:blipFill>
          <a:blip r:embed="rId1"/>
          <a:stretch/>
        </p:blipFill>
        <p:spPr>
          <a:xfrm>
            <a:off x="179280" y="115920"/>
            <a:ext cx="4753080" cy="2860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835"/>
          <p:cNvPicPr/>
          <p:nvPr/>
        </p:nvPicPr>
        <p:blipFill>
          <a:blip r:embed="rId2"/>
          <a:stretch/>
        </p:blipFill>
        <p:spPr>
          <a:xfrm>
            <a:off x="4427640" y="2205000"/>
            <a:ext cx="3936960" cy="2925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79280" y="494172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идти по льду, засунув руки в карманы. Нести за спиной прочно надетый рюкз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img-42774"/>
          <p:cNvPicPr/>
          <p:nvPr/>
        </p:nvPicPr>
        <p:blipFill>
          <a:blip r:embed="rId1"/>
          <a:stretch/>
        </p:blipFill>
        <p:spPr>
          <a:xfrm>
            <a:off x="2124000" y="692280"/>
            <a:ext cx="517860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79280" y="53737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спускаться с горок на лыжах и санках в незнакомом мес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pe01981_"/>
          <p:cNvPicPr/>
          <p:nvPr/>
        </p:nvPicPr>
        <p:blipFill>
          <a:blip r:embed="rId1"/>
          <a:stretch/>
        </p:blipFill>
        <p:spPr>
          <a:xfrm>
            <a:off x="1403280" y="836640"/>
            <a:ext cx="3421080" cy="3527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81835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651640" y="227664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8:50:18Z</dcterms:created>
  <dc:creator>Ershova</dc:creator>
  <dc:description/>
  <dc:language>en-US</dc:language>
  <cp:lastModifiedBy>Admin</cp:lastModifiedBy>
  <dcterms:modified xsi:type="dcterms:W3CDTF">2012-08-05T07:43:10Z</dcterms:modified>
  <cp:revision>46</cp:revision>
  <dc:subject/>
  <dc:title>Слайд 1</dc:title>
</cp:coreProperties>
</file>